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ct" ContentType="image/x-pict"/>
  <Override PartName="/ppt/media/image10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Click to move the slide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0305-78A1-4D53-B1D0-0BA8FA845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read reflectively, our questioning will lead us, not to just the summary of what happened, not just to  a cataloging of the events of the plot, but to an examination of how structure, themes, and style as well as multiple language strategies, support the meaning and unity of a piece, thus enhancing our appreciation, understanding, and enjoyment of its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you can find ideas and lesson plans that can integrate with the text you are using in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silbilities are endless!  Different levels of books, different focusses during his life, bring in other wesites like the lincoln presidential muse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F9A1-7053-4FF5-9227-CB0694722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CBCC-F339-46A8-A8A6-4E131F2F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4020-0E27-44E3-B117-B0CAE801D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47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74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47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74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C5F1-659C-4828-AA78-8D0B88BF2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48F7-FCCC-4243-AD7C-2EC1B5415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D244-3D97-4E33-85A9-7F38AC3D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9D2B-25FB-4071-BA53-C51F85CE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66AE-B3C5-4126-9BC3-2BB16DE0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CC22-1057-4B47-8AD5-69EB7DB8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1932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DC12-A93C-4CA3-96E6-DB5BB953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BAD8-D80A-4C41-B929-5EB6E01F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9A97-9C4E-4A60-A45C-F345C1E1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E0F7-999E-4A83-85E0-DD2FD129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5FA6-854A-4B92-9E28-800FAD91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48E9-DA95-4C66-890C-49307C6F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2414-C4D9-4100-A921-69B4833F2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47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74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847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474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9A59-7B14-4998-BEB2-D51D5F262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4964-489A-447A-AE94-3D6FED5F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A7C9-7085-43C6-A5F4-49A4E9B9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346C-C40C-4FD0-A6EB-65F81D21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932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46FC-9DB5-47E7-AAB0-4F054021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F8E6-6567-464C-AFFB-931B06DB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6FB6-7F55-45AC-A069-69483B48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5FAC-EE0D-4741-8DC8-05036AF2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Click to edit the title text format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388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1" marL="660960" indent="-254160">
              <a:spcBef>
                <a:spcPts val="799"/>
              </a:spcBef>
              <a:buSzPct val="11248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2" marL="1017000" indent="-2034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3" marL="1424160" indent="-2034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4" marL="1830960" indent="-203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5" marL="1830960" indent="-2034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6" marL="1830960" indent="-2034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5131-FC7D-4F76-82B4-DF2BC1D00EB6}" type="slidenum"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Click to edit the title text format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720" y="624852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1C5C-DD8F-4F67-A0B8-B4026DB866BC}" type="slidenum"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Using Non-fiction to Teach    </a:t>
            </a: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	</a:t>
            </a: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Critical Thinking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90920" y="2743200"/>
            <a:ext cx="4190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What is Critical Thinking?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388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Identifying and evaluating evidence to guide decision making.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SzPct val="1388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Using in-depth analysis of evidence to make decisions and communicate beliefs accurately.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Century Gothic"/>
              </a:rPr>
              <a:t>Thinking….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SzPct val="1388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If we think, we are likely to question: if we question we are likely to analyze: if we analyze we are likely to evaluate or criticize the object of our thinking process.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marL="301680" indent="-301680">
              <a:spcBef>
                <a:spcPts val="601"/>
              </a:spcBef>
              <a:buSzPct val="1388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We do this is the context of our world,of other ideas and other sources of input.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neva"/>
              </a:rPr>
              <a:t>Dr. Catherine C. Lin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21b"/>
                </a:solidFill>
                <a:latin typeface="Century Gothic"/>
              </a:rPr>
              <a:t>Reasons for using non-fiction</a:t>
            </a:r>
            <a:endParaRPr b="0" lang="en-US" sz="40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21b"/>
                </a:solidFill>
                <a:latin typeface="Century Gothic"/>
              </a:rPr>
              <a:t>Teaching with Historic Places</a:t>
            </a:r>
            <a:endParaRPr b="0" lang="en-US" sz="40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20570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http://www.nps.gov/history/nr/twhp/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09680" y="3581280"/>
            <a:ext cx="5029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21b"/>
                </a:solidFill>
                <a:latin typeface="Century Gothic"/>
              </a:rPr>
              <a:t>Teaching with Historic Places</a:t>
            </a:r>
            <a:endParaRPr b="0" lang="en-US" sz="40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Lincolns Bicentennial Site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895480" y="3429000"/>
            <a:ext cx="3581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26:48Z</dcterms:created>
  <dc:creator>Curriculum Dept</dc:creator>
  <dc:description/>
  <dc:language>en-US</dc:language>
  <cp:lastModifiedBy>Curriculum Dept</cp:lastModifiedBy>
  <dcterms:modified xsi:type="dcterms:W3CDTF">2009-11-11T20:37:54Z</dcterms:modified>
  <cp:revision>1</cp:revision>
  <dc:subject/>
  <dc:title>Using Non-fiction to Teach     Critical Thinking</dc:title>
</cp:coreProperties>
</file>